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018459"/>
        <c:axId val="61748267"/>
      </c:barChart>
      <c:catAx>
        <c:axId val="490184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48267"/>
        <c:crosses val="autoZero"/>
        <c:auto val="1"/>
        <c:lblAlgn val="ctr"/>
        <c:lblOffset val="100"/>
        <c:noMultiLvlLbl val="0"/>
      </c:catAx>
      <c:valAx>
        <c:axId val="617482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184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4ED2-BD17-443B-B4CB-634183E4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A6A0-BDB7-4E77-9C1F-11C0CDFD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9FE9-436E-4610-A7B1-3DDF1AC2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BCAB-C366-4714-A3B3-B9E28355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8B79-DFAA-4B79-8B75-5AA1C922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C5EE-0D19-4C6F-BC6F-24B83DE8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59B-132B-4F8E-A1A8-3DDE9202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4C13-E6FC-4E37-9ACC-2DD86435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1A35-60F0-40EF-B791-68BC5D3F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3550-0F92-4BBF-ABF8-891C52DF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D37-BCDF-41CB-96B6-1B10E8AC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BF4-0494-490A-83A6-D67E286B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4BC46-FB6F-4174-A819-00EAE8C5BB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