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2171"/>
        <c:axId val="74159262"/>
      </c:barChart>
      <c:catAx>
        <c:axId val="3032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59262"/>
        <c:crosses val="autoZero"/>
        <c:auto val="1"/>
        <c:lblAlgn val="ctr"/>
        <c:lblOffset val="100"/>
        <c:noMultiLvlLbl val="0"/>
      </c:catAx>
      <c:valAx>
        <c:axId val="74159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2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31A-E870-426D-BD0D-2003D142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ED8-7480-404C-AC14-C488A5D1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C6C-5336-4C53-B308-4862F9F6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F05-5B84-4188-A915-249ADC87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863-10E8-406C-BECC-4D8C3545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F6B-700B-4196-9993-F2CA293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654-4D61-4C90-97F1-22A35C4A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458-5875-48ED-8FD4-310DBE94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DBE-9CC5-4684-9A62-4AFB6790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1D5-F52B-4220-BBE6-ABF406C7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8CE-09C7-4E69-8C20-0AE4C30C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323-8A3B-4FC0-B505-C99B6F2A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9A4B9-EEC0-4526-83D5-B0EBD7D7FE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