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17398"/>
        <c:axId val="17414270"/>
      </c:barChart>
      <c:catAx>
        <c:axId val="78717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4270"/>
        <c:crosses val="autoZero"/>
        <c:auto val="1"/>
        <c:lblAlgn val="ctr"/>
        <c:lblOffset val="100"/>
        <c:noMultiLvlLbl val="0"/>
      </c:catAx>
      <c:valAx>
        <c:axId val="17414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7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1C2-4952-4DEC-A9A1-4A20D343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812-C5FD-4880-B0DC-DB87B23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771-98DD-42DD-BD8E-179241FA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A53-006D-4307-9D1B-AE457F9A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D5F-AAC2-441B-B6B2-24A0CA4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2B9-4AC0-4466-AFAA-F6A4E7E1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189-3A23-422E-9B03-DDBE245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751-1B74-4B2E-9DFD-5CBD6C50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089-37B3-47B4-8E36-B9F4C7A7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E0C-2E58-404A-BC39-B46F958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3E7-1368-455A-8C59-A9E0A8B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E93-A8A1-45B8-A003-0646CB6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1D37-8477-4B94-AD43-9F748969B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