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54724"/>
        <c:axId val="91651843"/>
      </c:barChart>
      <c:catAx>
        <c:axId val="82547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51843"/>
        <c:crosses val="autoZero"/>
        <c:auto val="1"/>
        <c:lblAlgn val="ctr"/>
        <c:lblOffset val="100"/>
        <c:noMultiLvlLbl val="0"/>
      </c:catAx>
      <c:valAx>
        <c:axId val="916518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47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000A-4B16-49F3-A51B-0DB428F1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D856-ED72-4531-8275-F9940FED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DDE1-21D3-4942-83D4-A496F38D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03A8-9AB9-4675-8FDD-FC9F6180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181C-253F-4F24-862A-A4F63D46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E3E7-31F9-4741-85B1-406001EB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D7C5-4C8D-467F-BACB-2EEAE376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5F69-7AA4-4062-AFD8-EDA4A0B2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B868-D366-49F6-8B03-3B6A0841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78DD-B69D-4B07-8AED-6465CFF7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2F63-B484-4BC0-AAFB-3D27C172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6325-7BC5-4817-957C-A0CACA42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A1FD2-1D47-4FFF-B27E-D2ECCE5E28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