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16804"/>
        <c:axId val="35134738"/>
      </c:barChart>
      <c:catAx>
        <c:axId val="86016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34738"/>
        <c:crosses val="autoZero"/>
        <c:auto val="1"/>
        <c:lblAlgn val="ctr"/>
        <c:lblOffset val="100"/>
        <c:noMultiLvlLbl val="0"/>
      </c:catAx>
      <c:valAx>
        <c:axId val="35134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16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DB1-AB12-4BB9-A4A8-5E3D91E0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4EE-2308-4EA8-B922-41F47689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B67-1BF1-406C-9F1F-75DBAFC5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AAE-7C99-4608-8DC5-8526FD56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9BB-65B4-402F-95E4-095B5C7B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836-88E1-42A0-87FD-44BDDFD9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61C-31F5-4174-9F31-A5F67955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3BA-5022-48A0-869C-771E7C48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396-07A8-4CC6-94A8-762A1DC5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FCF-6E1C-4463-AFC3-BBE6F895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E98-B33D-4B49-B0D8-8440E380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184-36E7-404F-B53A-BE7549D0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84EC6-FF03-4E8E-8177-AFA3F2B45F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