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89699"/>
        <c:axId val="27864334"/>
      </c:barChart>
      <c:catAx>
        <c:axId val="85089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64334"/>
        <c:crosses val="autoZero"/>
        <c:auto val="1"/>
        <c:lblAlgn val="ctr"/>
        <c:lblOffset val="100"/>
        <c:noMultiLvlLbl val="0"/>
      </c:catAx>
      <c:valAx>
        <c:axId val="27864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89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4C0-DAFC-401B-ABF3-1C2502A8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8E3-D501-4842-A3A7-96AA8225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6AF-F2A6-45DD-A2DB-5FD21304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624-8E12-49DD-8054-5FA5851B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05E-6A9E-4442-8592-6724B6AA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8A1-D0C0-4F9F-8A62-593D56B3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DF3-8F3C-4664-B9D0-B5A24427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8BE-FA61-4621-862C-066903AB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089-8CAB-4788-9D50-199982D3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8CD-B3A1-4DA2-9264-C8CE3798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EF9-F058-4928-9C4A-B8C32DF5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E93-8C94-4E93-B376-50810E54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E2259-66B4-439E-8177-E46F90E999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