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31082"/>
        <c:axId val="79386255"/>
      </c:barChart>
      <c:catAx>
        <c:axId val="77631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86255"/>
        <c:crosses val="autoZero"/>
        <c:auto val="1"/>
        <c:lblAlgn val="ctr"/>
        <c:lblOffset val="100"/>
        <c:noMultiLvlLbl val="0"/>
      </c:catAx>
      <c:valAx>
        <c:axId val="79386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31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FDE-6CA5-4F71-8699-C8915F67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18B-E1B7-48CC-90FE-A7757DF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20B-4B69-40D7-82C2-B4B5BB47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1F93-0F88-4E2F-BFC9-7CA5CD37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76F-B07D-46C4-A794-7F21CAFF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7F6-964C-4A19-865C-D98EC80A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2A1-7861-4E4F-B549-379A2D87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1A2-2E96-4116-90C8-026A914B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EDC-2950-4C39-9B5D-0F41CC11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806-48BD-486B-AF52-9A17B5F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B49-A1F6-489A-9C61-41FE6169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E63-B21D-4AD6-9C18-328514B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4A80-B327-4318-91B9-E2FE9F50A7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