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98770"/>
        <c:axId val="66833120"/>
      </c:barChart>
      <c:catAx>
        <c:axId val="84198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33120"/>
        <c:crosses val="autoZero"/>
        <c:auto val="1"/>
        <c:lblAlgn val="ctr"/>
        <c:lblOffset val="100"/>
        <c:noMultiLvlLbl val="0"/>
      </c:catAx>
      <c:valAx>
        <c:axId val="66833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98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585-E29B-4884-B801-B9188F4F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310-8E47-49C3-870B-D9A9EEBB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1C9-3F2C-41D3-A675-5296DCCE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E90-09A4-4493-A997-A9F1DA56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44E-87CB-4533-819B-9C74A02F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927-7811-4AD2-9CC8-A1AD7FE0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3D1-CF1A-42D6-A009-8C5B2DE3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C36-D5A2-4796-B4B3-86FBC471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78D-078F-4EEB-89F0-6F96C401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998-2B45-4253-B855-983B989E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2CE-7B9F-41D5-ACAB-8FF55EC5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F06-2AB0-46A6-A986-95728FB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560CC-0541-4C89-BEF6-EC37DFF5FC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