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28575"/>
        <c:axId val="67672381"/>
      </c:barChart>
      <c:catAx>
        <c:axId val="82828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2381"/>
        <c:crosses val="autoZero"/>
        <c:auto val="1"/>
        <c:lblAlgn val="ctr"/>
        <c:lblOffset val="100"/>
        <c:noMultiLvlLbl val="0"/>
      </c:catAx>
      <c:valAx>
        <c:axId val="67672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8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684-7563-46AD-AFA4-6B4A2554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BAF-2BBB-449A-8E07-A0FBB03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2AB-1331-46FF-9B92-795A376D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7D6-C9E6-42EA-95BC-E834A60F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097-E334-4112-AC01-02BE741E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803-B4C6-41F1-BF93-3AB0D23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DA0-E7D5-496E-A6BA-15C2102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06E-3BBC-4025-B587-7AFB77D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FDF-CA57-4D16-B3CD-EF90248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81E-74B9-4C44-9D48-C66942D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1E7-BC66-4AF6-9A1C-C0FB974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1E5-AAFB-4417-99FD-D7249A7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7174A-3D4E-41F7-9032-C89729A517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