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7826"/>
        <c:axId val="52791717"/>
      </c:barChart>
      <c:catAx>
        <c:axId val="1547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91717"/>
        <c:crosses val="autoZero"/>
        <c:auto val="1"/>
        <c:lblAlgn val="ctr"/>
        <c:lblOffset val="100"/>
        <c:noMultiLvlLbl val="0"/>
      </c:catAx>
      <c:valAx>
        <c:axId val="52791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7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028-A9FC-4512-BAC6-4B761278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5E0-7BD5-430B-8591-162B5370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742-50DA-4953-9B7B-159C40FC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2A3-B8C1-4786-98D6-077D68AF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AD1-12EB-463F-A36D-FEAC357C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6C2-0D0B-443A-BB48-719A64AB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472-33E5-4862-9C7A-B3A3EF01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23F-9639-428E-B6B3-59095448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830-D7F5-43B8-B962-6A6E9118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D26-6FD1-436D-A265-BD0284D5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AFC-EA3B-4437-8F24-743DA4F5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8E5-92DD-4391-921B-34CA86E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FF85D-F32A-4AB5-A4A1-6589966189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