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47722"/>
        <c:axId val="32151384"/>
      </c:barChart>
      <c:catAx>
        <c:axId val="52347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51384"/>
        <c:crosses val="autoZero"/>
        <c:auto val="1"/>
        <c:lblAlgn val="ctr"/>
        <c:lblOffset val="100"/>
        <c:noMultiLvlLbl val="0"/>
      </c:catAx>
      <c:valAx>
        <c:axId val="32151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47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A74-5802-47B5-89E7-CF390744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2A9-730B-4F22-8B85-0BECAD2E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861-1AF5-4F9D-9E3F-256854F4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753-ED14-4E8F-9B16-99AD3237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AD9-47A2-42DA-A8E6-4845B8A9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F70-855A-4162-8B81-5226B990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5E6-CD91-487A-83C7-48ED3390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59F-E8EB-4AAF-A776-605C0AE5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A85-B1E8-4D18-967F-DF9B1CFA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450-99AB-46C4-8BEB-5A5ACA96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CF2-37AD-450C-A9C0-462231B8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F39-BFD7-49F3-9513-0EF5270C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E5082-2C4E-4E41-A77B-59C35CD4D5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