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1813074"/>
        <c:axId val="76894118"/>
      </c:barChart>
      <c:catAx>
        <c:axId val="3181307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894118"/>
        <c:crosses val="autoZero"/>
        <c:auto val="1"/>
        <c:lblAlgn val="ctr"/>
        <c:lblOffset val="100"/>
        <c:noMultiLvlLbl val="0"/>
      </c:catAx>
      <c:valAx>
        <c:axId val="7689411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81307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C601A-DB84-4574-9161-108C229B1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91248-7D5E-42F7-AF21-13E23853A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FE23C-131F-454C-BBCA-AE8F85EDA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3CC9D-5A54-41C1-BA96-9FB28F992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7996B-43C8-4E85-A962-AC71C3DAC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E52E1-03BF-481D-B360-4EB5476FC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E75D9-7A8C-42B1-A64F-797CC1A6E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7FDC0-1B67-47EE-AE87-550BE2819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E011C-CC44-4E0F-B713-868E1FFDE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3B08C-7642-41AF-8CD0-8A65E6ECD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E6265-79C9-47CE-81A1-688632EF0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C9A05-27F0-47A1-B5E5-318D50E68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DFC157-759F-4DC5-A27A-681D503E125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