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35620"/>
        <c:axId val="64684819"/>
      </c:barChart>
      <c:catAx>
        <c:axId val="402356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84819"/>
        <c:crosses val="autoZero"/>
        <c:auto val="1"/>
        <c:lblAlgn val="ctr"/>
        <c:lblOffset val="100"/>
        <c:noMultiLvlLbl val="0"/>
      </c:catAx>
      <c:valAx>
        <c:axId val="64684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356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E09-0E07-4F83-8781-428B6307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5F4-D38D-4742-AB87-DBE98AF9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ABB-BA7F-45E5-8CD5-CA22D4FD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30E-16D7-44A3-ABEA-57E4D336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5040-DC4E-42F1-987F-42653E1C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870-EEE5-4CEF-ADB0-F4C0C768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6FE-55E0-4FF1-900B-5B2535C8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8AF-7256-454D-A9B8-2120E33E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A05-5EFF-4378-99B8-8F9548FD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5B4-45E9-41A4-9BAE-CC58F546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800-D1B5-4F09-96DA-5E08707C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FAA-3E18-4FAD-9D5A-E4D2C777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DC39F-1347-4B57-933A-4E2052AC2F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