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48548"/>
        <c:axId val="53071881"/>
      </c:barChart>
      <c:catAx>
        <c:axId val="81048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71881"/>
        <c:crosses val="autoZero"/>
        <c:auto val="1"/>
        <c:lblAlgn val="ctr"/>
        <c:lblOffset val="100"/>
        <c:noMultiLvlLbl val="0"/>
      </c:catAx>
      <c:valAx>
        <c:axId val="53071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8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9C2-45B9-4821-82C2-48B5050B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7F6-3458-42A0-B4B2-8D8E6E1C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35B-CDE1-43E6-A327-DF289AC6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AEA-5833-4759-A8F7-3265077C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5A4-5D3F-4F86-ACDC-44344578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A7B-6028-470E-80DC-B8FF52D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45C-4857-4CAE-830B-7683D8A1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E04-71A1-4ED8-9A47-159C3329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4B2-F976-4A00-B6E7-5FB6519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27C-F74C-49A3-ABAA-D1C23782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4C4-04EB-435A-913E-2EA4C9A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FDC-9D44-4D8F-8488-D670183E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D2F78-AEC5-473B-8A0C-CD1829F261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