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47727"/>
        <c:axId val="46957262"/>
      </c:barChart>
      <c:catAx>
        <c:axId val="92047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7262"/>
        <c:crosses val="autoZero"/>
        <c:auto val="1"/>
        <c:lblAlgn val="ctr"/>
        <c:lblOffset val="100"/>
        <c:noMultiLvlLbl val="0"/>
      </c:catAx>
      <c:valAx>
        <c:axId val="46957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47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FD9-D5DF-4494-A66E-034EBC26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128-BB32-4AF9-BE56-0AE0FB9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90D-A0AE-42BC-8E18-F7D000A3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05F-5E15-46A3-BAA7-3CECFA80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35E-6A45-48A0-9B68-D104DB0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4D9-B8EF-4605-8724-1EC4EC27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703-CA64-4578-843C-2F4F5AD2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B9C-2A9A-4834-8950-D51B76D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E3F-5B2B-48A3-A4CC-C9B1294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95B-E41C-4E66-AB8C-CCA2CE61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4AC-BF4C-4491-A963-4F17577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A4F-9620-4D65-BA41-506C4F1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3A10-DFF1-48DD-935C-F54BC2D88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