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12609"/>
        <c:axId val="95996539"/>
      </c:barChart>
      <c:catAx>
        <c:axId val="28412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96539"/>
        <c:crosses val="autoZero"/>
        <c:auto val="1"/>
        <c:lblAlgn val="ctr"/>
        <c:lblOffset val="100"/>
        <c:noMultiLvlLbl val="0"/>
      </c:catAx>
      <c:valAx>
        <c:axId val="95996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12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AF3-D7C9-46F7-81A5-22DF6470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999-4C8E-4CFB-B558-D93A11E3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3A6-8276-4DF2-B5FD-F6FA686A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ED9-80C6-43EB-815C-D9F09B54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357-DDC7-4D0B-AD2D-C9579544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5F8-35FF-485E-8DCE-25C00393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845-4113-493E-9D09-904E5299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089-635A-4197-BA22-51C2CE85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DB5-B0D6-4343-9974-9D5B5F29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AF5-C7AE-4ACB-B69D-186886EE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128-CACA-4003-BA39-36B1772B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182-90D2-4233-AEE4-25828AB7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1BD16-F857-4FBB-901E-E18EA87D5D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